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hammer.wav" ContentType="audio/x-wav"/>
  <Override PartName="/ppt/media/image13.png" ContentType="image/png"/>
  <Override PartName="/ppt/media/image15.png" ContentType="image/png"/>
  <Override PartName="/ppt/media/image14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653C-86D2-4A6C-A77B-6E2AC2F77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DCEC-84A6-4A06-81D3-634EB7AC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157C71-8977-4D37-9C62-2879257B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A478D3-3B3C-451B-8833-A8654770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74B36B-BC89-445E-87F2-8C27BEBA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520BA0-3805-453F-B95B-4A0EC75A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56497-583B-4BF3-A022-441A447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56D9E5-D4DB-4600-A357-825703B0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11536F-A950-4916-81EB-2A3C6A7D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139EE-8D69-440D-AAF5-8D425CC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97185-809E-4949-9F96-2EC1542DF7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2CFAC-9E74-41A7-B6B5-B82647D933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866F-6E17-46F5-B677-51FA4C6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BEF1C-51CC-4ADF-A036-AECCA222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8A9B6-0778-4883-BA5C-D4F9329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BD1BF-559B-4B5F-83D6-C6AF2CCF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5EA3D-63EB-4149-BD0D-28C890FD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630A9-C292-4DBD-9FE8-D6D7190B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7F5EF-6515-48A5-B394-1F46AB3D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F0780-279B-4E4B-9A86-7FF6C438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9499D-0B1A-4FAF-B2E7-F9D6D537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93A3C-B53B-42B7-AA2A-4DEC698B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6F627-DF07-4C6F-BD73-80BF2D15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E9C0-11BF-4C88-8DA8-2E3118FB8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99CD0-AF13-4ABB-B880-81BB8C0ED9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7A240E-4A35-459B-8B85-99A2DD70FF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FFD048-8B00-4097-8638-3774C19E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EA7E2B-8508-4BFA-8A10-B01CA81B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38A329-91EC-453B-B51F-76F54760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292158-9673-4441-8828-1A061293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912491-F442-4F94-949E-B1D5367B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FCA27-66E4-45F9-88A1-8B1CD901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6BB7F9-D660-4EA5-85CA-42B07EA9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7CCA87-1FA3-41EA-81CE-803E7043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6DB30-8D1E-476D-989B-84445B95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77D879-7A10-47C2-954F-866953E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1C2D8-BC59-4F7B-8AA0-049186B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396E3-087E-444D-A9DC-DE2C45B9D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84261-8E26-40EB-9DBE-444AF8629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52B6B-769F-4013-A9CE-CF921B5C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4D2DB-5DF2-4932-82E1-4713DBF3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9C3F0-42C9-468A-8ABD-DB08F4F7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39F73-8AF3-469E-BFA4-ECBB6C83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2C7C4-46B0-4B33-A62E-0EE78AEE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E2E20-9995-497D-95B2-DFBE2CEA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935DA-0B06-4470-A0F7-0D3F886F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6DFF4-D4E1-46E9-B487-033D8BB5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5CB33-67FF-43E5-A9CA-F5C6317C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85C15-9675-4CFA-B0A2-5DE9E51C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EB7F2-5439-4CE0-BF78-CEC2C18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E6E5D-0E3E-4931-996A-B9B3F1A4C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4003D-0030-4F01-BD52-DE459063E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809B0-BF9D-4792-8DF1-77E41E24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8A498-BF2E-4BB1-AB6D-0DA29312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B07ED-3764-4475-A9FC-89C74608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1ADB3-D523-4DD0-A8D5-967BE378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1D2D-F113-4FED-B642-7CFDAAB6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8772A-CE67-40FD-B9CD-A2550D78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8D0D7-9851-4A3C-9139-AFBE76C4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8A6BB-8FA5-4DE5-8B08-74B6B3E2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88AE5-CB48-49F5-8CF3-2526E52F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0F673-9A34-4841-B399-F7DF147D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C90A7-C642-40BA-B576-564B0943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58B51-8D62-4001-9C8A-C20D3370F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B5E23-4639-4582-BE78-4801100A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D6C61-25EB-4D62-80B7-621DC310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17A3A-4617-44D2-BB7C-10BC01DF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6C109-F171-491E-A114-616307EA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D1D53-1B05-45DC-93E3-CBA81FB1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F0E7B-1FE2-41F5-A9E8-1024060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59EC6-9C37-438D-93A3-2457403A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F1336-BF2E-4A1D-AF1A-7EE099BA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7CC9D-53D2-47F9-A265-98C1180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555BD-0815-467F-9665-075047F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AFDDF-DB89-47CF-ADCE-3C1B53BB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CC185-46EF-4C52-BFA0-664DF6F4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1E0B9-3C26-4455-9D12-89D749BA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579C9-DCAE-4B3E-805C-F00B3295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77E8E-F4D8-4421-ADCD-359C99A5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34D70-7A81-4AF0-9233-F6F2B617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F7635-380C-4890-A120-B5079C73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CB3BB-0DC0-4451-ADD1-BD4B80B1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915F3-C24D-49E3-96C1-3B54578F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B59EE-C5F0-49F6-A9BD-2C28068B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6B7F4-4836-4F9D-8B60-31A37CE5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1964D-E5D0-4EC8-8F82-636ACC57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A4244-6C6E-4295-8286-4CAB008E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97DE5-6701-4701-B18D-76F9F050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54E20-CFB9-4F4A-B164-EEF1BB73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BC4A6-EF56-4B58-A814-D2A50069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AAF08-AF68-4CD6-971F-D55E721E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A0B02-8D1C-4719-8589-54482936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8A877-BCA5-47AF-B95D-1718B00E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C100A-0769-46C0-8748-CBB96267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3EA07-7438-455C-B75B-67840F73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2AB3D-EACD-42FA-9A80-41F77877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3899B-9A55-434A-904B-695C24CF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EDCCA-A941-43F7-BDFF-32DFDC6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87738-0272-4128-9455-048A3640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4CD6A-1063-47C2-8614-BFFE5B8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CD7FE-2188-4E49-A342-FA5739A8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51F33-88ED-4E98-871C-AB5C8BFE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CC5F5-B118-4F78-8A1B-C445FE7C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7CBDE-6BF0-4B4D-95EF-AD733B50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0ACFA-3A3B-415A-9160-021F5017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88F5E-FC3D-4E22-ADA6-D7E486BD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75BC1-9141-4FA8-B488-9ED402F3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B1013-B099-4165-AEDB-AD93AD0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DE452-A770-454C-97DA-A8CBEB49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2C829-8F10-4E5A-AF34-A91BE189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7357D-E60D-46C7-B50F-71B2979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6366-D881-43BF-BCAB-8BCDCAA1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7074D-19A6-48E3-A65C-0EDC59D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DD743-E146-4530-8306-0DDA19CC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C3734-0684-4789-B89F-A423FC34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EFAAF-8BFE-46B8-BEAB-93EBE2B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1D8B1-FEAD-40A6-978D-FC8051C6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D2EE3-BECA-42EE-B452-DBCD010A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676CD-75B4-4CC9-B546-A8F020D4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1C06C-FB79-423E-AA95-ED393A4C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3BBB8-5763-493E-A6C2-DAD89C6F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D85FC-AF49-45EB-B5EF-7589FAF8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F5682-9417-486F-9D3D-9A76B8E5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F5371-9CC6-4328-96E5-3415421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94EBC-4FD5-42B8-8BBF-2FE398D7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A5667-6851-453B-9743-EC4C9EA4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1C4F7-6384-4680-AE7B-89F0A10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43521-7FCD-4A9A-BB8D-6D5CE485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289B4-09D1-4189-8882-B4DFD1FB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CCDAF-F369-497E-8E95-990B4A25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CB10F-B0E4-45AB-9DD6-F67F2876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0D6C5-5DD4-4DAC-BD4A-D76132A1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9A26E-11C1-42D3-BD86-4B69A025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CCC88-7F85-4B4C-96F3-EE5684F9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16494-C1E5-4A30-9C23-52678709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6294A-8AC4-4490-878F-6406ACE4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19978-E74A-419A-875B-0DC8B9F0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A4017-B2FC-4D7F-B939-033077D6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F67EB-CFE9-4843-8F98-3757FBD2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005BC-192E-4110-A980-38E0CE0F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AB895-5B12-43C1-8BC7-95AB96EF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A6B5E-B568-4789-9868-6300114B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F1CE8-081F-4947-9895-65C766D7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D40B7-4081-40F3-91A7-D724E9EE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83B46-D911-4EDB-8E05-DC37DB79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DA0DE-2B64-47EA-8211-EC2423AA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B52F5-5C2A-4A72-9C30-02A83AAC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642B5-BF77-4D8D-898B-C67957BF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D3EA4-5135-4231-BDC2-094025FD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C929C-5994-4C0B-8B30-F4ACA202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B0D65-2334-44E0-A680-69E1D8A5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09519-77B6-4BC3-A167-2D95DB7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4A46D-F207-41E3-AA02-2C519CB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ECEA6-F0F9-4D65-B406-56AE52C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8A219-4382-44DC-B720-3A4773A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5E6A8-3EF1-4067-BBF8-1CC716A9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12704-E0C1-4DFA-9875-63D203EC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6C698-A413-484D-A175-E86FA495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41422-5BB9-4B06-A58E-99B2538D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E5529-4D3F-478C-92F6-A1FC87DE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C8FBC-B44C-474A-9E0A-E196E14E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32402-CC37-4F34-8EEC-B60D126A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E3AFE-87F6-4D37-97F4-F546FBA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AD675-5869-4759-88A3-7D8530A9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9C120-C91E-45A1-9D2F-C49165DC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9763E-AA30-4F83-8F8E-24270B4C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58D39-ABA9-47BB-9773-9DDEB08E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5D372-BC83-4E45-93C8-3DC0181712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50EBE-477B-4FCF-B10D-6A0CB002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18283-4F5C-4579-9C3A-EEAC56B9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2B38D-0EAB-42AA-B964-D83DF86D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321D0-FCCD-4016-A2F3-342CC24D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366EF-09C3-44EA-B4B0-1820142A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68AE3-802D-477C-9DC7-B4355A61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91599-6186-4967-B912-208D1732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4A50E-52B9-4A0B-8AF5-67D74A7E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C5A8D-91DF-439F-A634-0201234A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C7A75-CF5C-406E-BD18-CD10DC61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6518A-9DBD-4052-86DF-5D696668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B76B5-1146-4741-8CB9-C8E5F14E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5909A-3200-4D20-842C-B2856F5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92B23-295C-4C64-903F-7696BA00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433BAB-8B8D-4C55-82EC-3CA4B43E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4B72AA-17B6-4DF1-88B7-80793FE0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E6F94-7B98-4EE8-9E46-2E3BC188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92DC0-CDC7-4055-8A24-9757F75F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C4655-CBE9-41EB-B132-6D5C852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E47DE6-4AE2-4AB6-B6F7-F2277897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E87C6-A8C7-4D19-832F-9C2DDC08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F242B8-2B8D-4BFE-9E64-1B540E55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9974AA-7FEE-40A6-86BD-ABD424A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0384D8-448A-491A-9D09-BFB71CAD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6ED447-47C7-46F0-A354-FA98812E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59705C-60C7-4648-A737-AC052DE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F47F3-05D2-404D-A7E4-77B0823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55CF9-2D60-4B1B-9F83-EFCF523C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7B27CD-1999-4052-B730-3733254A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A9DC1-7F40-49F6-B3BE-0E9E614D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B5FE8-A13A-496B-859C-7880B8A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E38D3-2B2C-4EC6-8FCE-5DA7D26A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5ED1F7-B075-4F27-A087-02FA8298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E1D7F-15CE-4717-80D5-80AAEB27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60F95-B435-4D87-9F9D-77410A6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BC8B4A-28BC-4D3B-9F21-8D84B04F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FD9D0-F805-4065-9614-03D5859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CD244-3512-45A5-9990-9C9F198B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8348B-5402-488C-A26B-94EFBF26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755691-811D-4707-B6AB-5B5B72F8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FC461-4BA6-43AF-8AA6-385ABCA4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543DBC-55DE-4C30-B9F1-9ADC40F8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A37A5-332C-4559-9C6A-049B0556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86D2-DBFF-4FE1-9E83-37AD2F0F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D5254-861A-4ADD-ADF7-C66B2834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6E100-38E7-4F9B-B1A5-D94313B0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CA44D-C27D-48BA-915B-E9C88ADB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D708F-5EAB-4DB7-B12F-547A7908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B5645-A97B-4E1A-B76A-C7805257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5B8A1-58C9-4B77-86DE-ADB353FC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733F7E-7E7D-4E29-91B5-91064D4FF7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358B-270A-40DF-A34A-B857F93A5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6473-5BC9-4310-92C5-8A3D2F32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6C18-FC9E-418E-8C29-93B52A07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9052-CCF2-4B6D-B2C3-0621D513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554A-269E-4702-A751-0FB66D5A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EC66-A64D-4AB0-AB15-D5DE806A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6534-5D14-4020-9368-20E22F4D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A7D64-96CF-4858-9CDB-5C3423ED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E1B0-512B-47E7-A1BD-7E9C2FDF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0557-C59D-4012-9D8F-3EBB55D5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7F7E-B39E-44DF-89B2-A302AF4C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4351-11CF-4164-8668-52A39B94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3388-EA04-42A7-907F-7C16F11B49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ED38F-7A40-4C88-BC57-251CBAC846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DD9E-EF26-45A7-AC21-0B0DFFDF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B461B-C03A-41FB-A8D4-53098443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2417C-4DF5-4F26-80C0-1B878B5D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4A7C1-BB9D-4077-AC88-17343FC4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7E10E-40A3-4986-BF09-6B535F50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885CB-9CB8-4E7D-8C2E-301EF6F4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AE180-49AB-4128-8C14-E4AD34A8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EBF5B-B09A-46B5-BD77-39ED4B53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405B8-1A68-4782-9AA7-C9542096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1F3999-504D-46E4-8BA0-EA2FAA4F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4F6E63-19E6-4EB3-B32E-E5206433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142D-D1A5-423C-8306-C0C90FA0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24518-96DD-4BE1-A3B9-FF59C33C8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E7365-38D4-407C-A676-9B08FD7D5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A05F6D-2DE5-40D8-9C0E-961EBAB7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C6D6D1-354B-493E-9B9F-1CC4E27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CC9A08-81F3-47DE-9C75-E999A1F8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D6201-00CA-44EF-A6D6-5F012E67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CD65EB-9D7B-4505-9070-1B4DDF60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E6D581-784B-4695-9143-963A155C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86B42C-CDB2-4768-8446-501DDE49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2663E-21B2-43D7-8C56-9DF598F4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F354-1649-4438-8E3E-4FE02390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D088FD-E468-43AD-850E-5ED306E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22C438-CD47-41CD-A9D6-930D5132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34B4FC-C33C-4E18-8A02-EDF7C03D78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CB1F2-0745-4286-8CE1-E9A28367D8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E3D5E-0818-4A10-944F-7FB9D518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E10E2-F58D-4B98-B1B5-26A39165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99021-A9C3-47C3-A743-BA333BD9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B6BE5-B617-4122-B760-23F0CD60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0814F-E789-460A-B8B8-0724DE1D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8B5B-909D-48C2-AF31-34D1FE76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0A90-C53F-4893-AE49-33C1431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3F8D-F25A-49E2-BF2F-FE587FD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B71D-EA23-44E5-9F5B-06CEA4AE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DBD0-9C9B-4AD6-86A6-8F6327B6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F26D-43BD-4E01-BB33-5B454CB8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9DD2-7721-4769-B764-5E4EF062A6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F378E-D553-4DA8-9DDE-680248B774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77E4E-21B1-4A77-954D-878BB71B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038C7-4C90-4271-AF8F-1F9D532D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EE65E-F72E-4DC8-9755-4907CC32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B3A32-A855-4FFC-8288-C70BCD5B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BB4C-9BB1-447B-9E9B-DA8EF18D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90B09-92F4-4B0E-A3EF-9B08C5C6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7C069-A1E6-4E41-A242-F424F422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B3298-EB1C-42FF-B6D8-83C7A27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E1EDC-68E5-46A7-B9D8-24AA3B13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D8DEB-A18B-4B68-91A7-DAD1520A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6EA78-9CDA-4E5B-897F-41AB53E4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472E1-E9C6-43B9-A08C-1B805CB32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A86721-F9B1-482D-8E4D-9D0286AA8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3E46BC-BDB0-46D5-B1BE-27C69818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C1BFDA-BA12-4DAA-B0C0-41A00804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249-93F3-4C2E-9281-E526AF7A353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3625-2F55-42AA-B287-84F0FACF15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B940-3363-4366-8C2E-F7C9F79743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E80C-D669-45C6-B325-9EBE5D521C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0EF7-9135-458C-A741-F922BBEC98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61A8-7D24-492F-BED5-02AD25DA66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4CC4-6CC4-4A12-A261-1371992B636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F3C-0AFC-4240-BD44-1F72B6E0F83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AC3A-2D05-4D31-8E18-2DCC5B15DA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BB05-7403-4235-950A-4CE9DBF6A6D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08AC-D024-47B0-BC27-C51CD083189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F6A6-6592-4A01-BF4B-B8412F64D7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1C81-6518-4CF2-B12B-EF93242523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E312-8DFF-4716-B0BE-098D27938D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A532-4846-4FC0-9F11-F7695CCC68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E3BE-2014-4DEE-8C36-8C37F7BF2C2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395B-4BBD-4C77-AA49-4647541E19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F0CA-E7D5-44B7-8B4E-7884C1D6419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F0AA-232C-4723-A9AA-10CAA0174A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DC80-4EE4-4AAC-ADF9-3250E6A23D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791D-67CF-4BA5-A8D4-DC209F489D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F19-362C-41A5-9FAB-C4FA49D405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40C5-8D1F-4E2A-B1BD-0FBFED4F72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0B7-1A55-44B3-859C-5093D252E7F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chimes.wav"/><Relationship Id="rId13" Type="http://schemas.openxmlformats.org/officeDocument/2006/relationships/audio" Target="../media/hammer.wav"/><Relationship Id="rId1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chimes.wav"/><Relationship Id="rId13" Type="http://schemas.openxmlformats.org/officeDocument/2006/relationships/audio" Target="../media/hammer.wav"/><Relationship Id="rId1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chimes.wav"/><Relationship Id="rId12" Type="http://schemas.openxmlformats.org/officeDocument/2006/relationships/audio" Target="../media/hammer.wav"/><Relationship Id="rId13" Type="http://schemas.openxmlformats.org/officeDocument/2006/relationships/audio" Target="../media/chimes.wav"/><Relationship Id="rId14" Type="http://schemas.openxmlformats.org/officeDocument/2006/relationships/audio" Target="../media/hammer.wav"/><Relationship Id="rId1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1974960" y="2770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加 减 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5251320" cy="6120"/>
            <a:chOff x="2284560" y="2448000"/>
            <a:chExt cx="5251320" cy="612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5251320" cy="612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525132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541440" y="174636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~1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9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9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00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8" name="内容占位符 4097" descr="3456778889gsdddfhjyu"/>
          <p:cNvPicPr/>
          <p:nvPr/>
        </p:nvPicPr>
        <p:blipFill>
          <a:blip r:embed="rId8"/>
          <a:stretch/>
        </p:blipFill>
        <p:spPr>
          <a:xfrm>
            <a:off x="5940360" y="2997360"/>
            <a:ext cx="2305080" cy="3297240"/>
          </a:xfrm>
          <a:prstGeom prst="rect">
            <a:avLst/>
          </a:prstGeom>
          <a:ln w="0">
            <a:noFill/>
          </a:ln>
        </p:spPr>
      </p:pic>
      <p:sp>
        <p:nvSpPr>
          <p:cNvPr id="1009" name="云形标注 4098"/>
          <p:cNvSpPr/>
          <p:nvPr/>
        </p:nvSpPr>
        <p:spPr>
          <a:xfrm>
            <a:off x="468360" y="2133720"/>
            <a:ext cx="4321080" cy="3456000"/>
          </a:xfrm>
          <a:prstGeom prst="cloudCallout">
            <a:avLst>
              <a:gd name="adj1" fmla="val 68847"/>
              <a:gd name="adj2" fmla="val 15962"/>
            </a:avLst>
          </a:prstGeom>
          <a:solidFill>
            <a:srgbClr val="ffff99"/>
          </a:solidFill>
          <a:ln w="349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4099"/>
          <p:cNvSpPr/>
          <p:nvPr/>
        </p:nvSpPr>
        <p:spPr>
          <a:xfrm>
            <a:off x="1685880" y="2781360"/>
            <a:ext cx="188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九一九好朋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二八二八手拉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三七三七真亲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六四六一起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五五凑成一双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622440" y="98280"/>
            <a:ext cx="43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一、复习引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5"/>
          <p:cNvSpPr/>
          <p:nvPr/>
        </p:nvSpPr>
        <p:spPr>
          <a:xfrm>
            <a:off x="684360" y="1125360"/>
            <a:ext cx="3166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拍手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圆角矩形标注 5121"/>
          <p:cNvSpPr/>
          <p:nvPr/>
        </p:nvSpPr>
        <p:spPr>
          <a:xfrm>
            <a:off x="2700360" y="3357720"/>
            <a:ext cx="2376360" cy="10792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圆角矩形标注 5122"/>
          <p:cNvSpPr/>
          <p:nvPr/>
        </p:nvSpPr>
        <p:spPr>
          <a:xfrm>
            <a:off x="4211640" y="1989000"/>
            <a:ext cx="1584360" cy="865440"/>
          </a:xfrm>
          <a:prstGeom prst="wedgeRoundRectCallout">
            <a:avLst>
              <a:gd name="adj1" fmla="val 88518"/>
              <a:gd name="adj2" fmla="val 45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内容占位符 5123" descr="1209669"/>
          <p:cNvPicPr/>
          <p:nvPr/>
        </p:nvPicPr>
        <p:blipFill>
          <a:blip r:embed="rId1"/>
          <a:stretch/>
        </p:blipFill>
        <p:spPr>
          <a:xfrm flipH="1">
            <a:off x="394920" y="3286080"/>
            <a:ext cx="2352600" cy="2514600"/>
          </a:xfrm>
          <a:prstGeom prst="rect">
            <a:avLst/>
          </a:prstGeom>
          <a:ln w="0">
            <a:noFill/>
          </a:ln>
        </p:spPr>
      </p:pic>
      <p:pic>
        <p:nvPicPr>
          <p:cNvPr id="1016" name="内容占位符 5124" descr="375759_155357086884_2[1]"/>
          <p:cNvPicPr/>
          <p:nvPr/>
        </p:nvPicPr>
        <p:blipFill>
          <a:blip r:embed="rId2"/>
          <a:stretch/>
        </p:blipFill>
        <p:spPr>
          <a:xfrm>
            <a:off x="6445080" y="2205000"/>
            <a:ext cx="1775160" cy="2413080"/>
          </a:xfrm>
          <a:prstGeom prst="rect">
            <a:avLst/>
          </a:prstGeom>
          <a:ln w="0">
            <a:noFill/>
          </a:ln>
        </p:spPr>
      </p:pic>
      <p:sp>
        <p:nvSpPr>
          <p:cNvPr id="1017" name="文本框 5125"/>
          <p:cNvSpPr/>
          <p:nvPr/>
        </p:nvSpPr>
        <p:spPr>
          <a:xfrm>
            <a:off x="4543920" y="213372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我说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5126"/>
          <p:cNvSpPr/>
          <p:nvPr/>
        </p:nvSpPr>
        <p:spPr>
          <a:xfrm>
            <a:off x="2844720" y="3429000"/>
            <a:ext cx="21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我说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组成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5"/>
          <p:cNvSpPr/>
          <p:nvPr/>
        </p:nvSpPr>
        <p:spPr>
          <a:xfrm>
            <a:off x="611280" y="76356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对数字组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的口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21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2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23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6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0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3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34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6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2" name="文本框 6145"/>
          <p:cNvSpPr/>
          <p:nvPr/>
        </p:nvSpPr>
        <p:spPr>
          <a:xfrm>
            <a:off x="2122560" y="98100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想一想，摆一摆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6146"/>
          <p:cNvSpPr/>
          <p:nvPr/>
        </p:nvSpPr>
        <p:spPr>
          <a:xfrm>
            <a:off x="1104840" y="292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6147"/>
          <p:cNvSpPr/>
          <p:nvPr/>
        </p:nvSpPr>
        <p:spPr>
          <a:xfrm>
            <a:off x="2255760" y="292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6148"/>
          <p:cNvGrpSpPr/>
          <p:nvPr/>
        </p:nvGrpSpPr>
        <p:grpSpPr>
          <a:xfrm>
            <a:off x="1403280" y="2422080"/>
            <a:ext cx="1009800" cy="575280"/>
            <a:chOff x="1403280" y="2422080"/>
            <a:chExt cx="1009800" cy="575280"/>
          </a:xfrm>
        </p:grpSpPr>
        <p:sp>
          <p:nvSpPr>
            <p:cNvPr id="1046" name="直接连接符 6149"/>
            <p:cNvSpPr/>
            <p:nvPr/>
          </p:nvSpPr>
          <p:spPr>
            <a:xfrm flipH="1">
              <a:off x="1403280" y="2422440"/>
              <a:ext cx="48312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直接连接符 6150"/>
            <p:cNvSpPr/>
            <p:nvPr/>
          </p:nvSpPr>
          <p:spPr>
            <a:xfrm flipH="1" flipV="1">
              <a:off x="1903320" y="2422080"/>
              <a:ext cx="50976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文本框 6151"/>
          <p:cNvSpPr/>
          <p:nvPr/>
        </p:nvSpPr>
        <p:spPr>
          <a:xfrm>
            <a:off x="1523520" y="18464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流程图: 终止 6152"/>
          <p:cNvSpPr/>
          <p:nvPr/>
        </p:nvSpPr>
        <p:spPr>
          <a:xfrm>
            <a:off x="3635280" y="1846440"/>
            <a:ext cx="4465800" cy="1728720"/>
          </a:xfrm>
          <a:prstGeom prst="flowChartTerminator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椭圆 6153"/>
          <p:cNvSpPr/>
          <p:nvPr/>
        </p:nvSpPr>
        <p:spPr>
          <a:xfrm>
            <a:off x="4140360" y="2062080"/>
            <a:ext cx="57600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椭圆 6154"/>
          <p:cNvSpPr/>
          <p:nvPr/>
        </p:nvSpPr>
        <p:spPr>
          <a:xfrm>
            <a:off x="4861080" y="2062080"/>
            <a:ext cx="57600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椭圆 6155"/>
          <p:cNvSpPr/>
          <p:nvPr/>
        </p:nvSpPr>
        <p:spPr>
          <a:xfrm>
            <a:off x="5580000" y="206208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椭圆 6156"/>
          <p:cNvSpPr/>
          <p:nvPr/>
        </p:nvSpPr>
        <p:spPr>
          <a:xfrm>
            <a:off x="6300720" y="206208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椭圆 6157"/>
          <p:cNvSpPr/>
          <p:nvPr/>
        </p:nvSpPr>
        <p:spPr>
          <a:xfrm>
            <a:off x="7020000" y="206208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椭圆 6158"/>
          <p:cNvSpPr/>
          <p:nvPr/>
        </p:nvSpPr>
        <p:spPr>
          <a:xfrm>
            <a:off x="4140360" y="2781360"/>
            <a:ext cx="57600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椭圆 6159"/>
          <p:cNvSpPr/>
          <p:nvPr/>
        </p:nvSpPr>
        <p:spPr>
          <a:xfrm>
            <a:off x="4861080" y="2781360"/>
            <a:ext cx="5745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椭圆 6160"/>
          <p:cNvSpPr/>
          <p:nvPr/>
        </p:nvSpPr>
        <p:spPr>
          <a:xfrm>
            <a:off x="558000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椭圆 6161"/>
          <p:cNvSpPr/>
          <p:nvPr/>
        </p:nvSpPr>
        <p:spPr>
          <a:xfrm>
            <a:off x="630072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椭圆 6162"/>
          <p:cNvSpPr/>
          <p:nvPr/>
        </p:nvSpPr>
        <p:spPr>
          <a:xfrm>
            <a:off x="702000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6163"/>
          <p:cNvSpPr/>
          <p:nvPr/>
        </p:nvSpPr>
        <p:spPr>
          <a:xfrm flipH="1">
            <a:off x="6587280" y="4510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6164"/>
          <p:cNvSpPr/>
          <p:nvPr/>
        </p:nvSpPr>
        <p:spPr>
          <a:xfrm>
            <a:off x="6588720" y="522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6165"/>
          <p:cNvSpPr/>
          <p:nvPr/>
        </p:nvSpPr>
        <p:spPr>
          <a:xfrm>
            <a:off x="1908000" y="4508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 + 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6166"/>
          <p:cNvSpPr/>
          <p:nvPr/>
        </p:nvSpPr>
        <p:spPr>
          <a:xfrm>
            <a:off x="3348000" y="451008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6167"/>
          <p:cNvSpPr/>
          <p:nvPr/>
        </p:nvSpPr>
        <p:spPr>
          <a:xfrm>
            <a:off x="3348000" y="522936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6168"/>
          <p:cNvSpPr/>
          <p:nvPr/>
        </p:nvSpPr>
        <p:spPr>
          <a:xfrm>
            <a:off x="1908000" y="51577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9 + 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6169"/>
          <p:cNvSpPr/>
          <p:nvPr/>
        </p:nvSpPr>
        <p:spPr>
          <a:xfrm>
            <a:off x="4935960" y="515772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6170"/>
          <p:cNvSpPr/>
          <p:nvPr/>
        </p:nvSpPr>
        <p:spPr>
          <a:xfrm>
            <a:off x="4934520" y="449100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 – 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6171"/>
          <p:cNvSpPr/>
          <p:nvPr/>
        </p:nvSpPr>
        <p:spPr>
          <a:xfrm>
            <a:off x="3276720" y="45100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  <a:ea typeface="宋体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6172"/>
          <p:cNvSpPr/>
          <p:nvPr/>
        </p:nvSpPr>
        <p:spPr>
          <a:xfrm>
            <a:off x="6588000" y="4510080"/>
            <a:ext cx="505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6173"/>
          <p:cNvSpPr/>
          <p:nvPr/>
        </p:nvSpPr>
        <p:spPr>
          <a:xfrm>
            <a:off x="658800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6174"/>
          <p:cNvSpPr/>
          <p:nvPr/>
        </p:nvSpPr>
        <p:spPr>
          <a:xfrm>
            <a:off x="3276720" y="522936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  <a:ea typeface="宋体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5"/>
          <p:cNvSpPr/>
          <p:nvPr/>
        </p:nvSpPr>
        <p:spPr>
          <a:xfrm>
            <a:off x="681120" y="117360"/>
            <a:ext cx="30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二、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文本框 7169"/>
          <p:cNvSpPr/>
          <p:nvPr/>
        </p:nvSpPr>
        <p:spPr>
          <a:xfrm>
            <a:off x="218448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7170"/>
          <p:cNvSpPr/>
          <p:nvPr/>
        </p:nvSpPr>
        <p:spPr>
          <a:xfrm>
            <a:off x="2124000" y="2997360"/>
            <a:ext cx="5749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7171"/>
          <p:cNvSpPr/>
          <p:nvPr/>
        </p:nvSpPr>
        <p:spPr>
          <a:xfrm>
            <a:off x="111672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7172"/>
          <p:cNvGrpSpPr/>
          <p:nvPr/>
        </p:nvGrpSpPr>
        <p:grpSpPr>
          <a:xfrm>
            <a:off x="1403280" y="2422080"/>
            <a:ext cx="1009800" cy="575280"/>
            <a:chOff x="1403280" y="2422080"/>
            <a:chExt cx="1009800" cy="575280"/>
          </a:xfrm>
        </p:grpSpPr>
        <p:sp>
          <p:nvSpPr>
            <p:cNvPr id="1077" name="直接连接符 7173"/>
            <p:cNvSpPr/>
            <p:nvPr/>
          </p:nvSpPr>
          <p:spPr>
            <a:xfrm flipH="1">
              <a:off x="1403280" y="2422440"/>
              <a:ext cx="483120" cy="57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直接连接符 7174"/>
            <p:cNvSpPr/>
            <p:nvPr/>
          </p:nvSpPr>
          <p:spPr>
            <a:xfrm flipH="1" flipV="1">
              <a:off x="1903320" y="2422080"/>
              <a:ext cx="509760" cy="57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文本框 7175"/>
          <p:cNvSpPr/>
          <p:nvPr/>
        </p:nvSpPr>
        <p:spPr>
          <a:xfrm>
            <a:off x="1523520" y="18464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流程图: 终止 7176"/>
          <p:cNvSpPr/>
          <p:nvPr/>
        </p:nvSpPr>
        <p:spPr>
          <a:xfrm>
            <a:off x="3635280" y="1846440"/>
            <a:ext cx="4465800" cy="1728720"/>
          </a:xfrm>
          <a:prstGeom prst="flowChartTerminator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椭圆 7177"/>
          <p:cNvSpPr/>
          <p:nvPr/>
        </p:nvSpPr>
        <p:spPr>
          <a:xfrm>
            <a:off x="4140360" y="2062080"/>
            <a:ext cx="57600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椭圆 7178"/>
          <p:cNvSpPr/>
          <p:nvPr/>
        </p:nvSpPr>
        <p:spPr>
          <a:xfrm>
            <a:off x="4861080" y="2062080"/>
            <a:ext cx="57600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椭圆 7179"/>
          <p:cNvSpPr/>
          <p:nvPr/>
        </p:nvSpPr>
        <p:spPr>
          <a:xfrm>
            <a:off x="5580000" y="206208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椭圆 7180"/>
          <p:cNvSpPr/>
          <p:nvPr/>
        </p:nvSpPr>
        <p:spPr>
          <a:xfrm>
            <a:off x="6300720" y="206208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椭圆 7181"/>
          <p:cNvSpPr/>
          <p:nvPr/>
        </p:nvSpPr>
        <p:spPr>
          <a:xfrm>
            <a:off x="7020000" y="206208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椭圆 7182"/>
          <p:cNvSpPr/>
          <p:nvPr/>
        </p:nvSpPr>
        <p:spPr>
          <a:xfrm>
            <a:off x="4140360" y="2781360"/>
            <a:ext cx="57600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椭圆 7183"/>
          <p:cNvSpPr/>
          <p:nvPr/>
        </p:nvSpPr>
        <p:spPr>
          <a:xfrm>
            <a:off x="4861080" y="2781360"/>
            <a:ext cx="5745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椭圆 7184"/>
          <p:cNvSpPr/>
          <p:nvPr/>
        </p:nvSpPr>
        <p:spPr>
          <a:xfrm>
            <a:off x="558000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椭圆 7185"/>
          <p:cNvSpPr/>
          <p:nvPr/>
        </p:nvSpPr>
        <p:spPr>
          <a:xfrm>
            <a:off x="630072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椭圆 7186"/>
          <p:cNvSpPr/>
          <p:nvPr/>
        </p:nvSpPr>
        <p:spPr>
          <a:xfrm>
            <a:off x="702000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7187"/>
          <p:cNvSpPr/>
          <p:nvPr/>
        </p:nvSpPr>
        <p:spPr>
          <a:xfrm flipH="1">
            <a:off x="6660360" y="440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7188"/>
          <p:cNvSpPr/>
          <p:nvPr/>
        </p:nvSpPr>
        <p:spPr>
          <a:xfrm>
            <a:off x="1476360" y="4797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 +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7189"/>
          <p:cNvSpPr/>
          <p:nvPr/>
        </p:nvSpPr>
        <p:spPr>
          <a:xfrm>
            <a:off x="3276720" y="483552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7190"/>
          <p:cNvSpPr/>
          <p:nvPr/>
        </p:nvSpPr>
        <p:spPr>
          <a:xfrm>
            <a:off x="4934520" y="44006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 – 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7191"/>
          <p:cNvSpPr/>
          <p:nvPr/>
        </p:nvSpPr>
        <p:spPr>
          <a:xfrm>
            <a:off x="3203640" y="4797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7192"/>
          <p:cNvSpPr/>
          <p:nvPr/>
        </p:nvSpPr>
        <p:spPr>
          <a:xfrm>
            <a:off x="6588000" y="4438800"/>
            <a:ext cx="50508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7193"/>
          <p:cNvSpPr/>
          <p:nvPr/>
        </p:nvSpPr>
        <p:spPr>
          <a:xfrm>
            <a:off x="2266920" y="4835520"/>
            <a:ext cx="50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7194"/>
          <p:cNvSpPr/>
          <p:nvPr/>
        </p:nvSpPr>
        <p:spPr>
          <a:xfrm>
            <a:off x="2340720" y="47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7195"/>
          <p:cNvSpPr/>
          <p:nvPr/>
        </p:nvSpPr>
        <p:spPr>
          <a:xfrm>
            <a:off x="4932360" y="53020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 –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矩形 7196"/>
          <p:cNvSpPr/>
          <p:nvPr/>
        </p:nvSpPr>
        <p:spPr>
          <a:xfrm>
            <a:off x="6877080" y="534024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7197"/>
          <p:cNvSpPr/>
          <p:nvPr/>
        </p:nvSpPr>
        <p:spPr>
          <a:xfrm>
            <a:off x="6948360" y="5302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7198"/>
          <p:cNvSpPr/>
          <p:nvPr/>
        </p:nvSpPr>
        <p:spPr>
          <a:xfrm>
            <a:off x="5940360" y="534024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7199"/>
          <p:cNvSpPr/>
          <p:nvPr/>
        </p:nvSpPr>
        <p:spPr>
          <a:xfrm>
            <a:off x="601272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10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6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107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文本框 8193"/>
          <p:cNvSpPr/>
          <p:nvPr/>
        </p:nvSpPr>
        <p:spPr>
          <a:xfrm>
            <a:off x="219600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8194"/>
          <p:cNvSpPr/>
          <p:nvPr/>
        </p:nvSpPr>
        <p:spPr>
          <a:xfrm>
            <a:off x="2124000" y="2997360"/>
            <a:ext cx="5749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8195"/>
          <p:cNvSpPr/>
          <p:nvPr/>
        </p:nvSpPr>
        <p:spPr>
          <a:xfrm>
            <a:off x="111672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组合 8196"/>
          <p:cNvGrpSpPr/>
          <p:nvPr/>
        </p:nvGrpSpPr>
        <p:grpSpPr>
          <a:xfrm>
            <a:off x="1403280" y="2422080"/>
            <a:ext cx="1009800" cy="575280"/>
            <a:chOff x="1403280" y="2422080"/>
            <a:chExt cx="1009800" cy="575280"/>
          </a:xfrm>
        </p:grpSpPr>
        <p:sp>
          <p:nvSpPr>
            <p:cNvPr id="1119" name="直接连接符 8197"/>
            <p:cNvSpPr/>
            <p:nvPr/>
          </p:nvSpPr>
          <p:spPr>
            <a:xfrm flipH="1">
              <a:off x="1403280" y="2422440"/>
              <a:ext cx="483120" cy="57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直接连接符 8198"/>
            <p:cNvSpPr/>
            <p:nvPr/>
          </p:nvSpPr>
          <p:spPr>
            <a:xfrm flipH="1" flipV="1">
              <a:off x="1903320" y="2422080"/>
              <a:ext cx="509760" cy="57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文本框 8199"/>
          <p:cNvSpPr/>
          <p:nvPr/>
        </p:nvSpPr>
        <p:spPr>
          <a:xfrm>
            <a:off x="1523520" y="18464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流程图: 终止 8200"/>
          <p:cNvSpPr/>
          <p:nvPr/>
        </p:nvSpPr>
        <p:spPr>
          <a:xfrm>
            <a:off x="3635280" y="1846440"/>
            <a:ext cx="4465800" cy="1728720"/>
          </a:xfrm>
          <a:prstGeom prst="flowChartTerminator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椭圆 8201"/>
          <p:cNvSpPr/>
          <p:nvPr/>
        </p:nvSpPr>
        <p:spPr>
          <a:xfrm>
            <a:off x="4140360" y="2062080"/>
            <a:ext cx="57600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椭圆 8202"/>
          <p:cNvSpPr/>
          <p:nvPr/>
        </p:nvSpPr>
        <p:spPr>
          <a:xfrm>
            <a:off x="4861080" y="2062080"/>
            <a:ext cx="57600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椭圆 8203"/>
          <p:cNvSpPr/>
          <p:nvPr/>
        </p:nvSpPr>
        <p:spPr>
          <a:xfrm>
            <a:off x="5580000" y="2062080"/>
            <a:ext cx="57636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椭圆 8204"/>
          <p:cNvSpPr/>
          <p:nvPr/>
        </p:nvSpPr>
        <p:spPr>
          <a:xfrm>
            <a:off x="6300720" y="206208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椭圆 8205"/>
          <p:cNvSpPr/>
          <p:nvPr/>
        </p:nvSpPr>
        <p:spPr>
          <a:xfrm>
            <a:off x="7020000" y="206208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椭圆 8206"/>
          <p:cNvSpPr/>
          <p:nvPr/>
        </p:nvSpPr>
        <p:spPr>
          <a:xfrm>
            <a:off x="4140360" y="2781360"/>
            <a:ext cx="57600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椭圆 8207"/>
          <p:cNvSpPr/>
          <p:nvPr/>
        </p:nvSpPr>
        <p:spPr>
          <a:xfrm>
            <a:off x="4861080" y="2781360"/>
            <a:ext cx="5745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椭圆 8208"/>
          <p:cNvSpPr/>
          <p:nvPr/>
        </p:nvSpPr>
        <p:spPr>
          <a:xfrm>
            <a:off x="558000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椭圆 8209"/>
          <p:cNvSpPr/>
          <p:nvPr/>
        </p:nvSpPr>
        <p:spPr>
          <a:xfrm>
            <a:off x="630072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椭圆 8210"/>
          <p:cNvSpPr/>
          <p:nvPr/>
        </p:nvSpPr>
        <p:spPr>
          <a:xfrm>
            <a:off x="702000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8211"/>
          <p:cNvSpPr/>
          <p:nvPr/>
        </p:nvSpPr>
        <p:spPr>
          <a:xfrm flipH="1">
            <a:off x="6660360" y="44006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8212"/>
          <p:cNvSpPr/>
          <p:nvPr/>
        </p:nvSpPr>
        <p:spPr>
          <a:xfrm>
            <a:off x="1476360" y="4797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 +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8213"/>
          <p:cNvSpPr/>
          <p:nvPr/>
        </p:nvSpPr>
        <p:spPr>
          <a:xfrm>
            <a:off x="3276720" y="483552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8214"/>
          <p:cNvSpPr/>
          <p:nvPr/>
        </p:nvSpPr>
        <p:spPr>
          <a:xfrm>
            <a:off x="4934520" y="44006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 –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8215"/>
          <p:cNvSpPr/>
          <p:nvPr/>
        </p:nvSpPr>
        <p:spPr>
          <a:xfrm>
            <a:off x="3203640" y="4797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8216"/>
          <p:cNvSpPr/>
          <p:nvPr/>
        </p:nvSpPr>
        <p:spPr>
          <a:xfrm>
            <a:off x="6588000" y="4438800"/>
            <a:ext cx="50328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8217"/>
          <p:cNvSpPr/>
          <p:nvPr/>
        </p:nvSpPr>
        <p:spPr>
          <a:xfrm>
            <a:off x="2266920" y="4835520"/>
            <a:ext cx="50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8218"/>
          <p:cNvSpPr/>
          <p:nvPr/>
        </p:nvSpPr>
        <p:spPr>
          <a:xfrm>
            <a:off x="2340720" y="47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8219"/>
          <p:cNvSpPr/>
          <p:nvPr/>
        </p:nvSpPr>
        <p:spPr>
          <a:xfrm>
            <a:off x="4932360" y="53020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 –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8220"/>
          <p:cNvSpPr/>
          <p:nvPr/>
        </p:nvSpPr>
        <p:spPr>
          <a:xfrm>
            <a:off x="6948360" y="534024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8221"/>
          <p:cNvSpPr/>
          <p:nvPr/>
        </p:nvSpPr>
        <p:spPr>
          <a:xfrm>
            <a:off x="7020000" y="5302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8222"/>
          <p:cNvSpPr/>
          <p:nvPr/>
        </p:nvSpPr>
        <p:spPr>
          <a:xfrm>
            <a:off x="5940360" y="534024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8223"/>
          <p:cNvSpPr/>
          <p:nvPr/>
        </p:nvSpPr>
        <p:spPr>
          <a:xfrm>
            <a:off x="601272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14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8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149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1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文本框 9217"/>
          <p:cNvSpPr/>
          <p:nvPr/>
        </p:nvSpPr>
        <p:spPr>
          <a:xfrm flipH="1">
            <a:off x="118728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9218"/>
          <p:cNvSpPr/>
          <p:nvPr/>
        </p:nvSpPr>
        <p:spPr>
          <a:xfrm flipH="1">
            <a:off x="1119240" y="2997360"/>
            <a:ext cx="5745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9219"/>
          <p:cNvSpPr/>
          <p:nvPr/>
        </p:nvSpPr>
        <p:spPr>
          <a:xfrm flipH="1">
            <a:off x="219564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9220"/>
          <p:cNvGrpSpPr/>
          <p:nvPr/>
        </p:nvGrpSpPr>
        <p:grpSpPr>
          <a:xfrm>
            <a:off x="1402920" y="2422080"/>
            <a:ext cx="1009800" cy="575280"/>
            <a:chOff x="1402920" y="2422080"/>
            <a:chExt cx="1009800" cy="575280"/>
          </a:xfrm>
        </p:grpSpPr>
        <p:sp>
          <p:nvSpPr>
            <p:cNvPr id="1161" name="直接连接符 9221"/>
            <p:cNvSpPr/>
            <p:nvPr/>
          </p:nvSpPr>
          <p:spPr>
            <a:xfrm>
              <a:off x="1929600" y="2422440"/>
              <a:ext cx="48312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直接连接符 9222"/>
            <p:cNvSpPr/>
            <p:nvPr/>
          </p:nvSpPr>
          <p:spPr>
            <a:xfrm flipV="1">
              <a:off x="1402920" y="2422080"/>
              <a:ext cx="50976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文本框 9223"/>
          <p:cNvSpPr/>
          <p:nvPr/>
        </p:nvSpPr>
        <p:spPr>
          <a:xfrm flipH="1">
            <a:off x="1523520" y="18464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流程图: 终止 9224"/>
          <p:cNvSpPr/>
          <p:nvPr/>
        </p:nvSpPr>
        <p:spPr>
          <a:xfrm>
            <a:off x="3635280" y="1846440"/>
            <a:ext cx="4465800" cy="1728720"/>
          </a:xfrm>
          <a:prstGeom prst="flowChartTerminator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椭圆 9225"/>
          <p:cNvSpPr/>
          <p:nvPr/>
        </p:nvSpPr>
        <p:spPr>
          <a:xfrm>
            <a:off x="4140360" y="2062080"/>
            <a:ext cx="57600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椭圆 9226"/>
          <p:cNvSpPr/>
          <p:nvPr/>
        </p:nvSpPr>
        <p:spPr>
          <a:xfrm>
            <a:off x="4861080" y="2062080"/>
            <a:ext cx="57600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椭圆 9227"/>
          <p:cNvSpPr/>
          <p:nvPr/>
        </p:nvSpPr>
        <p:spPr>
          <a:xfrm>
            <a:off x="5580000" y="2062080"/>
            <a:ext cx="57636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椭圆 9228"/>
          <p:cNvSpPr/>
          <p:nvPr/>
        </p:nvSpPr>
        <p:spPr>
          <a:xfrm>
            <a:off x="6300720" y="2062080"/>
            <a:ext cx="576360" cy="57636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椭圆 9229"/>
          <p:cNvSpPr/>
          <p:nvPr/>
        </p:nvSpPr>
        <p:spPr>
          <a:xfrm>
            <a:off x="7020000" y="206208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椭圆 9230"/>
          <p:cNvSpPr/>
          <p:nvPr/>
        </p:nvSpPr>
        <p:spPr>
          <a:xfrm>
            <a:off x="4140360" y="2781360"/>
            <a:ext cx="57600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椭圆 9231"/>
          <p:cNvSpPr/>
          <p:nvPr/>
        </p:nvSpPr>
        <p:spPr>
          <a:xfrm>
            <a:off x="4861080" y="2781360"/>
            <a:ext cx="5745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椭圆 9232"/>
          <p:cNvSpPr/>
          <p:nvPr/>
        </p:nvSpPr>
        <p:spPr>
          <a:xfrm>
            <a:off x="558000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9233"/>
          <p:cNvSpPr/>
          <p:nvPr/>
        </p:nvSpPr>
        <p:spPr>
          <a:xfrm>
            <a:off x="630072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9234"/>
          <p:cNvSpPr/>
          <p:nvPr/>
        </p:nvSpPr>
        <p:spPr>
          <a:xfrm>
            <a:off x="7020000" y="2781360"/>
            <a:ext cx="57636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9235"/>
          <p:cNvSpPr/>
          <p:nvPr/>
        </p:nvSpPr>
        <p:spPr>
          <a:xfrm>
            <a:off x="1476360" y="4797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9236"/>
          <p:cNvSpPr/>
          <p:nvPr/>
        </p:nvSpPr>
        <p:spPr>
          <a:xfrm>
            <a:off x="3276720" y="483552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9237"/>
          <p:cNvSpPr/>
          <p:nvPr/>
        </p:nvSpPr>
        <p:spPr>
          <a:xfrm>
            <a:off x="3203640" y="4797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9238"/>
          <p:cNvSpPr/>
          <p:nvPr/>
        </p:nvSpPr>
        <p:spPr>
          <a:xfrm>
            <a:off x="1042920" y="4835520"/>
            <a:ext cx="50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9239"/>
          <p:cNvSpPr/>
          <p:nvPr/>
        </p:nvSpPr>
        <p:spPr>
          <a:xfrm>
            <a:off x="1116720" y="47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9240"/>
          <p:cNvSpPr/>
          <p:nvPr/>
        </p:nvSpPr>
        <p:spPr>
          <a:xfrm flipH="1">
            <a:off x="7019280" y="4365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文本框 9241"/>
          <p:cNvSpPr/>
          <p:nvPr/>
        </p:nvSpPr>
        <p:spPr>
          <a:xfrm>
            <a:off x="4934520" y="44006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 –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矩形 9242"/>
          <p:cNvSpPr/>
          <p:nvPr/>
        </p:nvSpPr>
        <p:spPr>
          <a:xfrm>
            <a:off x="6946920" y="4403880"/>
            <a:ext cx="50472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9243"/>
          <p:cNvSpPr/>
          <p:nvPr/>
        </p:nvSpPr>
        <p:spPr>
          <a:xfrm>
            <a:off x="4932360" y="53020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 –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矩形 9244"/>
          <p:cNvSpPr/>
          <p:nvPr/>
        </p:nvSpPr>
        <p:spPr>
          <a:xfrm>
            <a:off x="6948360" y="534024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9245"/>
          <p:cNvSpPr/>
          <p:nvPr/>
        </p:nvSpPr>
        <p:spPr>
          <a:xfrm>
            <a:off x="7020000" y="5302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矩形 9246"/>
          <p:cNvSpPr/>
          <p:nvPr/>
        </p:nvSpPr>
        <p:spPr>
          <a:xfrm>
            <a:off x="5940360" y="44067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9247"/>
          <p:cNvSpPr/>
          <p:nvPr/>
        </p:nvSpPr>
        <p:spPr>
          <a:xfrm>
            <a:off x="6012720" y="4368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矩形 9248"/>
          <p:cNvSpPr/>
          <p:nvPr/>
        </p:nvSpPr>
        <p:spPr>
          <a:xfrm>
            <a:off x="5940360" y="533880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9249"/>
          <p:cNvSpPr/>
          <p:nvPr/>
        </p:nvSpPr>
        <p:spPr>
          <a:xfrm>
            <a:off x="601272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19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2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193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组合 10241"/>
          <p:cNvGrpSpPr/>
          <p:nvPr/>
        </p:nvGrpSpPr>
        <p:grpSpPr>
          <a:xfrm>
            <a:off x="1979640" y="1123920"/>
            <a:ext cx="2087640" cy="792360"/>
            <a:chOff x="1979640" y="1123920"/>
            <a:chExt cx="2087640" cy="792360"/>
          </a:xfrm>
        </p:grpSpPr>
        <p:sp>
          <p:nvSpPr>
            <p:cNvPr id="1202" name="云形标注 10242"/>
            <p:cNvSpPr/>
            <p:nvPr/>
          </p:nvSpPr>
          <p:spPr>
            <a:xfrm>
              <a:off x="1979640" y="1123920"/>
              <a:ext cx="2087640" cy="792360"/>
            </a:xfrm>
            <a:prstGeom prst="cloudCallout">
              <a:avLst>
                <a:gd name="adj1" fmla="val -62208"/>
                <a:gd name="adj2" fmla="val 9659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文本框 10243"/>
            <p:cNvSpPr/>
            <p:nvPr/>
          </p:nvSpPr>
          <p:spPr>
            <a:xfrm>
              <a:off x="2300400" y="1266120"/>
              <a:ext cx="145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想一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4" name="内容占位符 10244" descr="5"/>
          <p:cNvPicPr/>
          <p:nvPr/>
        </p:nvPicPr>
        <p:blipFill>
          <a:blip r:embed="rId1"/>
          <a:stretch/>
        </p:blipFill>
        <p:spPr>
          <a:xfrm>
            <a:off x="324000" y="1700280"/>
            <a:ext cx="1679400" cy="2376360"/>
          </a:xfrm>
          <a:prstGeom prst="rect">
            <a:avLst/>
          </a:prstGeom>
          <a:ln w="0">
            <a:noFill/>
          </a:ln>
        </p:spPr>
      </p:pic>
      <p:sp>
        <p:nvSpPr>
          <p:cNvPr id="1205" name="文本框 10245"/>
          <p:cNvSpPr/>
          <p:nvPr/>
        </p:nvSpPr>
        <p:spPr>
          <a:xfrm flipH="1">
            <a:off x="7090560" y="323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10246"/>
          <p:cNvSpPr/>
          <p:nvPr/>
        </p:nvSpPr>
        <p:spPr>
          <a:xfrm>
            <a:off x="2409840" y="3230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 +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矩形 10247"/>
          <p:cNvSpPr/>
          <p:nvPr/>
        </p:nvSpPr>
        <p:spPr>
          <a:xfrm>
            <a:off x="3851280" y="323208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10248"/>
          <p:cNvSpPr/>
          <p:nvPr/>
        </p:nvSpPr>
        <p:spPr>
          <a:xfrm>
            <a:off x="5436360" y="321300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 –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10249"/>
          <p:cNvSpPr/>
          <p:nvPr/>
        </p:nvSpPr>
        <p:spPr>
          <a:xfrm>
            <a:off x="3778200" y="323064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  <a:ea typeface="宋体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10250"/>
          <p:cNvSpPr/>
          <p:nvPr/>
        </p:nvSpPr>
        <p:spPr>
          <a:xfrm>
            <a:off x="7091280" y="3232080"/>
            <a:ext cx="503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212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3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214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5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6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7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22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4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225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33" name="图片 11265" descr="P-068-2"/>
          <p:cNvPicPr/>
          <p:nvPr/>
        </p:nvPicPr>
        <p:blipFill>
          <a:blip r:embed="rId8"/>
          <a:stretch/>
        </p:blipFill>
        <p:spPr>
          <a:xfrm>
            <a:off x="1403280" y="1701720"/>
            <a:ext cx="6572160" cy="1555920"/>
          </a:xfrm>
          <a:prstGeom prst="rect">
            <a:avLst/>
          </a:prstGeom>
          <a:ln w="0">
            <a:noFill/>
          </a:ln>
        </p:spPr>
      </p:pic>
      <p:sp>
        <p:nvSpPr>
          <p:cNvPr id="1234" name="矩形 11266"/>
          <p:cNvSpPr/>
          <p:nvPr/>
        </p:nvSpPr>
        <p:spPr>
          <a:xfrm>
            <a:off x="5364000" y="1427040"/>
            <a:ext cx="98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8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组合 11267"/>
          <p:cNvGrpSpPr/>
          <p:nvPr/>
        </p:nvGrpSpPr>
        <p:grpSpPr>
          <a:xfrm>
            <a:off x="1528920" y="4062240"/>
            <a:ext cx="2251080" cy="520560"/>
            <a:chOff x="1528920" y="4062240"/>
            <a:chExt cx="2251080" cy="520560"/>
          </a:xfrm>
        </p:grpSpPr>
        <p:sp>
          <p:nvSpPr>
            <p:cNvPr id="1236" name="矩形 11268"/>
            <p:cNvSpPr/>
            <p:nvPr/>
          </p:nvSpPr>
          <p:spPr>
            <a:xfrm>
              <a:off x="1528920" y="4105080"/>
              <a:ext cx="43164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11269"/>
            <p:cNvSpPr/>
            <p:nvPr/>
          </p:nvSpPr>
          <p:spPr>
            <a:xfrm>
              <a:off x="3348360" y="4105080"/>
              <a:ext cx="43164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椭圆 11270"/>
            <p:cNvSpPr/>
            <p:nvPr/>
          </p:nvSpPr>
          <p:spPr>
            <a:xfrm>
              <a:off x="2032200" y="4105080"/>
              <a:ext cx="431640" cy="43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矩形 11271"/>
            <p:cNvSpPr/>
            <p:nvPr/>
          </p:nvSpPr>
          <p:spPr>
            <a:xfrm>
              <a:off x="2536920" y="4105080"/>
              <a:ext cx="43200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11272"/>
            <p:cNvSpPr/>
            <p:nvPr/>
          </p:nvSpPr>
          <p:spPr>
            <a:xfrm>
              <a:off x="2968920" y="40622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矩形 11273"/>
          <p:cNvSpPr/>
          <p:nvPr/>
        </p:nvSpPr>
        <p:spPr>
          <a:xfrm>
            <a:off x="2554920" y="4060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1274"/>
          <p:cNvSpPr/>
          <p:nvPr/>
        </p:nvSpPr>
        <p:spPr>
          <a:xfrm>
            <a:off x="1434240" y="4062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11275"/>
          <p:cNvSpPr/>
          <p:nvPr/>
        </p:nvSpPr>
        <p:spPr>
          <a:xfrm>
            <a:off x="3354840" y="4062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11276"/>
          <p:cNvSpPr/>
          <p:nvPr/>
        </p:nvSpPr>
        <p:spPr>
          <a:xfrm>
            <a:off x="2104200" y="402444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组合 11277"/>
          <p:cNvGrpSpPr/>
          <p:nvPr/>
        </p:nvGrpSpPr>
        <p:grpSpPr>
          <a:xfrm>
            <a:off x="5796000" y="4076640"/>
            <a:ext cx="2251080" cy="520560"/>
            <a:chOff x="5796000" y="4076640"/>
            <a:chExt cx="2251080" cy="520560"/>
          </a:xfrm>
        </p:grpSpPr>
        <p:sp>
          <p:nvSpPr>
            <p:cNvPr id="1246" name="矩形 11278"/>
            <p:cNvSpPr/>
            <p:nvPr/>
          </p:nvSpPr>
          <p:spPr>
            <a:xfrm>
              <a:off x="5796000" y="4119480"/>
              <a:ext cx="43164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矩形 11279"/>
            <p:cNvSpPr/>
            <p:nvPr/>
          </p:nvSpPr>
          <p:spPr>
            <a:xfrm>
              <a:off x="7615440" y="4119480"/>
              <a:ext cx="43164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椭圆 11280"/>
            <p:cNvSpPr/>
            <p:nvPr/>
          </p:nvSpPr>
          <p:spPr>
            <a:xfrm>
              <a:off x="6299280" y="4119480"/>
              <a:ext cx="431640" cy="43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1281"/>
            <p:cNvSpPr/>
            <p:nvPr/>
          </p:nvSpPr>
          <p:spPr>
            <a:xfrm>
              <a:off x="6804000" y="4119480"/>
              <a:ext cx="43200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矩形 11282"/>
            <p:cNvSpPr/>
            <p:nvPr/>
          </p:nvSpPr>
          <p:spPr>
            <a:xfrm>
              <a:off x="7236000" y="40766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矩形 11283"/>
          <p:cNvSpPr/>
          <p:nvPr/>
        </p:nvSpPr>
        <p:spPr>
          <a:xfrm>
            <a:off x="6802920" y="4060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矩形 11284"/>
          <p:cNvSpPr/>
          <p:nvPr/>
        </p:nvSpPr>
        <p:spPr>
          <a:xfrm>
            <a:off x="5783760" y="4062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矩形 11285"/>
          <p:cNvSpPr/>
          <p:nvPr/>
        </p:nvSpPr>
        <p:spPr>
          <a:xfrm>
            <a:off x="7501680" y="4062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矩形 11286"/>
          <p:cNvSpPr/>
          <p:nvPr/>
        </p:nvSpPr>
        <p:spPr>
          <a:xfrm>
            <a:off x="6310080" y="4033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11287"/>
          <p:cNvSpPr/>
          <p:nvPr/>
        </p:nvSpPr>
        <p:spPr>
          <a:xfrm>
            <a:off x="1497600" y="1054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共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11288"/>
          <p:cNvSpPr/>
          <p:nvPr/>
        </p:nvSpPr>
        <p:spPr>
          <a:xfrm>
            <a:off x="142164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还剩几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内容占位符 11289" descr="876920_112218998000_2[1]"/>
          <p:cNvPicPr/>
          <p:nvPr/>
        </p:nvPicPr>
        <p:blipFill>
          <a:blip r:embed="rId9"/>
          <a:stretch/>
        </p:blipFill>
        <p:spPr>
          <a:xfrm rot="20100000">
            <a:off x="2626920" y="980640"/>
            <a:ext cx="646200" cy="631800"/>
          </a:xfrm>
          <a:prstGeom prst="rect">
            <a:avLst/>
          </a:prstGeom>
          <a:ln w="0">
            <a:noFill/>
          </a:ln>
        </p:spPr>
      </p:pic>
      <p:sp>
        <p:nvSpPr>
          <p:cNvPr id="1258" name="文本框 11290"/>
          <p:cNvSpPr/>
          <p:nvPr/>
        </p:nvSpPr>
        <p:spPr>
          <a:xfrm>
            <a:off x="620784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共有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5"/>
          <p:cNvSpPr/>
          <p:nvPr/>
        </p:nvSpPr>
        <p:spPr>
          <a:xfrm>
            <a:off x="609480" y="11736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三、实践应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8:35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